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D054-65C9-40CC-AEB1-119CF07E7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777C-0EAA-46A3-AD1A-1015A6BB0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C91F-496F-4EE4-A60A-6D814CCC0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0C73-3F77-494A-87C9-03564F6A2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2AED-EC5B-4139-8DC1-FB8083928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EF0D-8F24-4662-BE8D-77597872F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EFF0-982C-4836-9938-B1BF350DD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3D70-D70E-47A5-BA15-4902A136D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2CDB-275F-4414-AF7F-1FBC8A996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D6CF-FF3C-4EBB-B27B-C13CC2190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C1BE-40BD-4E97-BCB4-EF54C1D29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26DC-C861-446A-9A2E-FA8426466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373A6-3527-4CC2-9314-B52945755312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752480"/>
            <a:ext cx="6400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صل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لثال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Andalus"/>
              </a:rPr>
              <a:t>تطوير التقارير المالي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F0C4-134B-4E2E-8433-2A42DE02EE19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1466640"/>
            <a:ext cx="8153280" cy="1143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عن للعامل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9480" y="3295800"/>
            <a:ext cx="7925040" cy="243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PT Bold Heading"/>
              </a:rPr>
              <a:t>معلومات عن العاملين وأعدادهم وأعمارهم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F7F7-D0E0-48A5-BD16-4ABC0127BBF1}" type="slidenum">
              <a:t>10</a:t>
            </a:fld>
          </a:p>
        </p:txBody>
      </p:sp>
    </p:spTree>
  </p:cSld>
  <p:transition>
    <p:random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1537920"/>
            <a:ext cx="81532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عن الموارد البش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3367080"/>
            <a:ext cx="7848720" cy="243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PT Bold Heading"/>
              </a:rPr>
              <a:t>معلومات مالية عن تكلفة اختيار وتعيين وتدريب العامل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9043-1FE1-443F-9771-586AE2F19DEA}" type="slidenum">
              <a:t>11</a:t>
            </a:fld>
          </a:p>
        </p:txBody>
      </p:sp>
    </p:spTree>
  </p:cSld>
  <p:transition>
    <p:random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1609200"/>
            <a:ext cx="81532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الاجتما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3438360"/>
            <a:ext cx="7925040" cy="2438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PT Bold Heading"/>
              </a:rPr>
              <a:t>لبيان كل من نفقات وعوائد المشروعات الاجتماعية وحماية البيئ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C773-81C2-4842-AB54-534E6B1997AC}" type="slidenum">
              <a:t>12</a:t>
            </a:fld>
          </a:p>
        </p:txBody>
      </p:sp>
    </p:spTree>
  </p:cSld>
  <p:transition>
    <p:random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1456920"/>
            <a:ext cx="81532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بالقيمة المضا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3438360"/>
            <a:ext cx="7848720" cy="2438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PT Bold Heading"/>
              </a:rPr>
              <a:t>لبيان مدى مساهمة كل عامل من عوامل الانتاج في الدخل المحق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91320" y="62373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0B19-1BED-49D9-80A0-3C541916F475}" type="slidenum">
              <a:t>13</a:t>
            </a:fld>
          </a:p>
        </p:txBody>
      </p:sp>
    </p:spTree>
  </p:cSld>
  <p:transition>
    <p:random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785160" y="2242440"/>
            <a:ext cx="7488000" cy="389736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تطورت التقارير المالية من حيث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كمية المعلوم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نوع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طريقة عرض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الحد الادنى الضروري من المعلومات التي يجب الإفصا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   عنها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765000"/>
            <a:ext cx="7705440" cy="1079640"/>
          </a:xfrm>
          <a:prstGeom prst="bevel">
            <a:avLst>
              <a:gd name="adj" fmla="val 2644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تطور التقارير الم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91320" y="63453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B364-A8E0-45C3-907D-A8CE97A1094C}" type="slidenum">
              <a:t>2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1447560"/>
            <a:ext cx="792468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لماذا ظهرت الدعوة إلى تطوير التقارير المالية؟؟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1760" y="3352320"/>
            <a:ext cx="7848360" cy="18766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50000">
                <a:srgbClr val="ffffff"/>
              </a:gs>
              <a:gs pos="100000">
                <a:srgbClr val="b2b2b2"/>
              </a:gs>
            </a:gsLst>
            <a:lin ang="5400000"/>
          </a:gra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لعدم وفاء التقارير المالية بشكلها الحالي باحتياجات المستفيدين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A116-07BA-4458-BC1E-FBD36FEA2EC5}" type="slidenum">
              <a:t>3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32040"/>
            <a:ext cx="7772400" cy="768240"/>
          </a:xfrm>
          <a:prstGeom prst="rect">
            <a:avLst/>
          </a:prstGeom>
          <a:gradFill rotWithShape="0">
            <a:gsLst>
              <a:gs pos="0">
                <a:srgbClr val="c5ffc5"/>
              </a:gs>
              <a:gs pos="50000">
                <a:srgbClr val="ffffff"/>
              </a:gs>
              <a:gs pos="100000">
                <a:srgbClr val="c5ffc5"/>
              </a:gs>
            </a:gsLst>
            <a:lin ang="5400000"/>
          </a:gra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ا هي مظاهر هذا التطور؟؟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43040" y="2000160"/>
            <a:ext cx="7772400" cy="41720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القطاعي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متعددة الأغراض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الدورية (الفترية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المستقبلي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الموجز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للعاملي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عن الموارد البشري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حاسبة الاجتماعي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بالقيمة المضاف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791320" y="63453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4F36-8B53-4012-98FF-313C90E0E386}" type="slidenum">
              <a:t>4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1537920"/>
            <a:ext cx="81532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القطا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3367080"/>
            <a:ext cx="8229600" cy="243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PT Bold Heading"/>
              </a:rPr>
              <a:t>الافصاح حسب الانتاج أو المناطق الجغراف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6161-ED47-4810-A417-C63CEA2B613E}" type="slidenum">
              <a:t>5</a:t>
            </a:fld>
          </a:p>
        </p:txBody>
      </p:sp>
    </p:spTree>
  </p:cSld>
  <p:transition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1820520"/>
            <a:ext cx="81532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متعددة الاغرا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3438360"/>
            <a:ext cx="8001000" cy="2438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PT Bold Heading"/>
              </a:rPr>
              <a:t>عدة طرق مثل تكلفة الاحلال أو الجا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E778-6768-4E11-B4AE-72AB4C79E040}" type="slidenum">
              <a:t>6</a:t>
            </a:fld>
          </a:p>
        </p:txBody>
      </p:sp>
    </p:spTree>
  </p:cSld>
  <p:transition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37920"/>
            <a:ext cx="7848720" cy="1143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الدورية (الفترية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3367080"/>
            <a:ext cx="7848720" cy="243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PT Bold Heading"/>
              </a:rPr>
              <a:t>لفترات قصيرة ربع سنوية مثل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0C88-234B-4266-B5E7-622C37A6BD8F}" type="slidenum">
              <a:t>7</a:t>
            </a:fld>
          </a:p>
        </p:txBody>
      </p:sp>
    </p:spTree>
  </p:cSld>
  <p:transition>
    <p:random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1537920"/>
            <a:ext cx="79246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المستقبل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3367080"/>
            <a:ext cx="8153640" cy="243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قوائم معتمدة على تنبؤات مستقب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A14A-EE5B-4593-81B0-5EBCF78ACE87}" type="slidenum">
              <a:t>8</a:t>
            </a:fld>
          </a:p>
        </p:txBody>
      </p:sp>
    </p:spTree>
  </p:cSld>
  <p:transition>
    <p:random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1142640"/>
            <a:ext cx="79246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الموجز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2971800"/>
            <a:ext cx="7848720" cy="243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ahoma"/>
                <a:cs typeface="PT Bold Heading"/>
              </a:rPr>
              <a:t>المختصر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D7F1-6D30-4FE4-9DFB-22DFCF02E95D}" type="slidenum">
              <a:t>9</a:t>
            </a:fld>
          </a:p>
        </p:txBody>
      </p:sp>
    </p:spTree>
  </p:cSld>
  <p:transition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10:54:15Z</dcterms:created>
  <dc:creator>**</dc:creator>
  <dc:description/>
  <dc:language>en-US</dc:language>
  <cp:lastModifiedBy>****</cp:lastModifiedBy>
  <dcterms:modified xsi:type="dcterms:W3CDTF">2003-12-07T21:54:19Z</dcterms:modified>
  <cp:revision>28</cp:revision>
  <dc:subject/>
  <dc:title>التحليل المالي والائتماني</dc:title>
</cp:coreProperties>
</file>